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4E8D-A45E-4DE5-8A3F-375DB185B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35040"/>
            <a:ext cx="4039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1869480"/>
            <a:ext cx="4039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8F32-95F3-4F23-A8CA-C2CB75DD0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3504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527560" y="153504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186948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527560" y="186948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65D9-D2E3-4824-AE6A-BCD78D9C7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3504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1823400" y="153504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3189240" y="153504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186948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1823400" y="186948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3189240" y="186948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9C8E-46EA-430B-8474-2D8078931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35040"/>
            <a:ext cx="403992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4AEF-E76B-487D-B831-0053B4CDE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35040"/>
            <a:ext cx="403992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C412-FF00-463C-AF3A-60D5745A6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35040"/>
            <a:ext cx="197136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2527560" y="1535040"/>
            <a:ext cx="197136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51A0-9568-4999-8B29-411B88E5D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ECA2-E204-4335-AFDF-02664AA17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03E0-8320-4603-A39E-FC6DDD3D8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3504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2527560" y="1535040"/>
            <a:ext cx="197136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186948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3602-ED6B-487F-B1A5-BDF3E8DEF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35040"/>
            <a:ext cx="197136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2527560" y="153504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527560" y="186948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7E01-2AC4-40DE-A711-099B8B564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3504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527560" y="153504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1869480"/>
            <a:ext cx="4039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C8E0-0F85-47D4-B89E-C483633A4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35040"/>
            <a:ext cx="4039920" cy="63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7200" y="2174760"/>
            <a:ext cx="4039920" cy="39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4645080" y="1535040"/>
            <a:ext cx="4041360" cy="63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645080" y="2174760"/>
            <a:ext cx="4041360" cy="39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6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7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8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D3D1AB3-61E2-48F9-B679-C39E90167353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348000" y="476640"/>
            <a:ext cx="5367240" cy="21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21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Что нужно знать собственнику жилья?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400"/>
            </a:b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57120" y="3213000"/>
            <a:ext cx="8357760" cy="2715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1000"/>
          </a:bodyPr>
          <a:p>
            <a:pPr indent="0" algn="ctr">
              <a:lnSpc>
                <a:spcPct val="100000"/>
              </a:lnSpc>
              <a:spcBef>
                <a:spcPts val="261"/>
              </a:spcBef>
              <a:buNone/>
              <a:tabLst>
                <a:tab algn="l" pos="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Calibri"/>
              </a:rPr>
              <a:t>Информация о результатах проводимых проверок жилищного фонда</a:t>
            </a:r>
            <a:endParaRPr b="0" lang="ru-RU" sz="13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261"/>
              </a:spcBef>
              <a:buNone/>
              <a:tabLst>
                <a:tab algn="l" pos="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Calibri"/>
              </a:rPr>
              <a:t>СПб ГКУ «Жилищное агентство Фрунзенского района» в период с 01.06.2019 по 30.06.2019</a:t>
            </a:r>
            <a:endParaRPr b="0" lang="ru-RU" sz="1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нкт-Петербургское государственное казенное учреждение «Жилищное агентство Фрунзенского район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нкт-Петербурга» (далее – ГКУ «ЖА»), выступающее уполномоченным представителем Санкт-Петербурга - собственника жилых и нежилых помещений в многоквартирных домах, в соответствии с Уставом, обеспечивает контроль за качеством и объемом предоставления жилищных услуг по договорам между ГКУ «ЖА» и управляющими организациями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многоквартирных домах, где расположены жилые помещения государственного жилищного фонда Санкт-Петербурга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том числе, в части санитарной уборки лестничных клеток. </a:t>
            </a: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целях недопущения нарушений прав и законных интересов нанимателей жилых помещений в МКД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трудниками ГКУ «ЖА» совместно с представителями управляющих компаний проведены проверки санитарного содержания домовладений района в период с 01 по 30 июня 2019 по 69 адресам, из них:</a:t>
            </a: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0000"/>
              </a:lnSpc>
              <a:buClr>
                <a:srgbClr val="000000"/>
              </a:buClr>
              <a:buFont typeface="Arial"/>
              <a:buChar char="-"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20 адресам проведена проверка содержания земельного участка, входящего в состав общего имущества МКД;</a:t>
            </a: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0000"/>
              </a:lnSpc>
              <a:buClr>
                <a:srgbClr val="000000"/>
              </a:buClr>
              <a:buFont typeface="Arial"/>
              <a:buChar char="-"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49 адресам проверено 69 лестничных клеток, выявлено ненадлежащее санитарное содержание по 6  адресам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10 лестничных клетках. Приняты меры по устранению выявленных замечаний. </a:t>
            </a: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0" y="6858000"/>
            <a:ext cx="542520" cy="45360"/>
          </a:xfrm>
          <a:prstGeom prst="rect">
            <a:avLst/>
          </a:prstGeom>
          <a:noFill/>
          <a:ln w="0">
            <a:noFill/>
          </a:ln>
        </p:spPr>
        <p:txBody>
          <a:bodyPr tIns="22680" bIns="2268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3214800" y="908640"/>
            <a:ext cx="5471640" cy="194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just">
              <a:lnSpc>
                <a:spcPct val="100000"/>
              </a:lnSpc>
              <a:spcBef>
                <a:spcPts val="241"/>
              </a:spcBef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дение дератизационных мероприятий (уничтожение  крыс, мышей), обитающих в многоквартирных домах относится к одной из самых важных задач  организаций по обслуживанию жилищного фонда.  Данные мероприятия направлены на ограничение численности и предотвращение проникновения грызунов в жилые и нежилые помещения.</a:t>
            </a: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241"/>
              </a:spcBef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филактические дератизационные мероприятия в МКД   подразделяются       на инженерно-технические, санитарно-гигиенические и агролесотехнические.</a:t>
            </a: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241"/>
              </a:spcBef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гролесотехнические   мероприятия включают в том числе,  уничтожение сорняков и  сбор  опавших листьев  на городских территориях.</a:t>
            </a: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241"/>
              </a:spcBef>
              <a:buNone/>
              <a:tabLst>
                <a:tab algn="l" pos="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Текст 4"/>
          <p:cNvSpPr/>
          <p:nvPr/>
        </p:nvSpPr>
        <p:spPr>
          <a:xfrm>
            <a:off x="3348000" y="764640"/>
            <a:ext cx="5357520" cy="23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rmAutofit/>
          </a:bodyPr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Прямоугольник 12"/>
          <p:cNvSpPr/>
          <p:nvPr/>
        </p:nvSpPr>
        <p:spPr>
          <a:xfrm>
            <a:off x="714240" y="6072120"/>
            <a:ext cx="8072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241"/>
              </a:spcBef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т того, насколько активны собственники при принятии решений по управлению своим имуществом, зависит комфортность проживания и стоимость Ваших квартир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Содержимое 13" descr="image.jpg"/>
          <p:cNvPicPr/>
          <p:nvPr/>
        </p:nvPicPr>
        <p:blipFill>
          <a:blip r:embed="rId1"/>
          <a:stretch/>
        </p:blipFill>
        <p:spPr>
          <a:xfrm>
            <a:off x="189720" y="548640"/>
            <a:ext cx="3013560" cy="237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Equity</Template>
  <TotalTime>1272</TotalTime>
  <Application>LibreOffice/7.4.7.2$Linux_X86_64 LibreOffice_project/40$Build-2</Application>
  <AppVersion>15.0000</AppVersion>
  <Words>134</Words>
  <Paragraphs>11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19T11:54:54Z</dcterms:created>
  <dc:creator>Boycova</dc:creator>
  <dc:description/>
  <dc:language>en-US</dc:language>
  <cp:lastModifiedBy>serogodskaja</cp:lastModifiedBy>
  <dcterms:modified xsi:type="dcterms:W3CDTF">2019-07-01T09:08:17Z</dcterms:modified>
  <cp:revision>157</cp:revision>
  <dc:subject/>
  <dc:title>Результаты общих объездов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</vt:r8>
  </property>
</Properties>
</file>