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8B4-BC64-43F2-BEF4-A68C3C82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2A7-D363-41C4-A765-BD03BA77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64F-A2D9-45EA-9AF3-FA3BF850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105-C5B4-4BC1-ACFD-EF6AE543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074-49D6-4987-A00B-0F80299C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E19-EB83-4544-923D-D89D7137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20B-8966-4D70-B07E-07C5B22F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827-040C-4BFC-B311-B172996B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F0E-4DAA-4480-A3F3-FD10A6E3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B6F-51F7-4C52-A377-F5A01D6F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C94-E51C-48D1-A1B0-1D845E91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A02-BD69-4B6B-8736-C2DBD859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9F79-E4DD-412B-B094-5DCD85280F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7640" y="476280"/>
            <a:ext cx="536724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Что нужно знать собственнику жилья?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6760" y="3212640"/>
            <a:ext cx="8358120" cy="27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Информация о результатах проводимых проверок жилищного фонд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Пб ГКУ «Жилищное агентство Фрунзенского района» в период с 01.03.2019 по 31.03.201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ское государственное казенное учреждение «Жилищное агентство Фрунзенского райо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а» (далее – ГКУ «ЖА»), выступающее уполномоченным представителем Санкт-Петербурга - собственника жилых и нежилых помещений в многоквартирных домах, в соответствии с Уставом, обеспечивает контроль за качеством и объемом предоставления жилищных услуг по договорам между ГКУ «ЖА» и управляющими организациям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ногоквартирных домах, где расположены жилые помещения государственного жилищного фонда Санкт-Петербург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м числе, в части санитарной уборки лестничных кле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недопущения нарушений прав и законных интересов нанимателей жилых помещений в МК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ами ГКУ «ЖА» совместно с представителями управляющих компаний проведены проверки санитарного содержания домовладений района в период с 01 по 31 марта 2019 по 100 адресам, из 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35 адресам проведена проверка содержания земельного участка, входящего в состав общего имущества МК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65 адресам проверено 77 лестничных клеток, выявлено ненадлежащее санитарное содержание по 5  адресам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5 лестничных клетках. Приняты меры по устранению выявленных замеч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0" y="6858000"/>
            <a:ext cx="5428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14800" y="907560"/>
            <a:ext cx="5472000" cy="23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 algn="just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ажаемые Петербурж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 апреля по 30 апреля 2019 года в нашем городе проводится ежегодный весенний месячник по благоустройству и уборке городских террито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ющие компании начали активную работу по приведению в порядок территории Фрунзенского района. В работах участвуют десятки тысяч граждан – дорожники, садовники, а также школьники, студенты, военнослужащие и сотрудники городских предприят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преле работникам хозяйственных отраслей предстоит за короткий срок выполнить большой объем работ по уборке и благоустройству террито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глашаем всех горожан внести свой вклад в благоустройство дворов, территорий и принять участие в общегородском весеннем субботнике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нь благоустройства города -  20 апреля 2019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Текст 4"/>
          <p:cNvSpPr/>
          <p:nvPr/>
        </p:nvSpPr>
        <p:spPr>
          <a:xfrm>
            <a:off x="3348000" y="765000"/>
            <a:ext cx="53578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714240" y="6072120"/>
            <a:ext cx="807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того, насколько активны собственники при принятии решений по управлению своим имуществом, зависит комфортность проживания и стоимость Ваших кварти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13" descr="image.jpg"/>
          <p:cNvPicPr/>
          <p:nvPr/>
        </p:nvPicPr>
        <p:blipFill>
          <a:blip r:embed="rId1"/>
          <a:stretch/>
        </p:blipFill>
        <p:spPr>
          <a:xfrm>
            <a:off x="190440" y="549360"/>
            <a:ext cx="30132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9T11:54:54Z</dcterms:created>
  <dc:creator>Boycova</dc:creator>
  <dc:description/>
  <dc:language>en-US</dc:language>
  <cp:lastModifiedBy>max</cp:lastModifiedBy>
  <dcterms:modified xsi:type="dcterms:W3CDTF">2019-04-03T07:41:41Z</dcterms:modified>
  <cp:revision>133</cp:revision>
  <dc:subject/>
  <dc:title>Результаты общих объездов</dc:title>
</cp:coreProperties>
</file>